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media/image10.jpeg" ContentType="image/jpeg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31B5-7EC1-445C-8CA2-E4FD8D38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645-5A6A-4731-9B48-DF09CB48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CEF-5F6B-4B2F-AF01-6B97114D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6CE-0993-43EB-B6CB-47F84C11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27F8-D582-4020-A313-6E599AC6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FCFF-481E-47C3-922B-2537C648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A99-8D1D-4F04-8A3C-F50ADE05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1D11-724E-4CEE-8A2A-C118C8B0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4E8-673E-4CB7-A99E-AAF4E9AB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292-19FE-479D-9DB0-D8A86BC0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FF0-547F-4847-8690-7C473949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582-48FF-40B5-B296-B4E915D5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D7B9-3513-4B1C-95D2-4E1E1318E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MCDD00943_0000[1]"/>
          <p:cNvPicPr/>
          <p:nvPr/>
        </p:nvPicPr>
        <p:blipFill>
          <a:blip r:embed="rId1"/>
          <a:stretch/>
        </p:blipFill>
        <p:spPr>
          <a:xfrm>
            <a:off x="1981080" y="762120"/>
            <a:ext cx="5275440" cy="5391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ff"/>
                </a:solidFill>
                <a:latin typeface="Sylfaen"/>
              </a:rPr>
              <a:t>Brainstorm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"/>
          <p:cNvPicPr/>
          <p:nvPr/>
        </p:nvPicPr>
        <p:blipFill>
          <a:blip r:embed="rId2"/>
          <a:stretch/>
        </p:blipFill>
        <p:spPr>
          <a:xfrm>
            <a:off x="426708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407 -0.6935 C 0.39775 -0.771 0.28143 -0.84803 0.20816 -0.83322 C 0.1349 -0.81819 0.04619 -0.67384 0.07448 -0.60491 C 0.10278 -0.5362 0.35678 -0.4867 0.37796 -0.42078 C 0.39914 -0.35439 0.27483 -0.22068 0.20122 -0.20842 C 0.12761 -0.19663 0.00625000000000001 -0.34375 -0.06388 -0.34768 C -0.13402 -0.35184 -0.23003 -0.28962 -0.21961 -0.23156 C -0.2092 -0.17396 -0.03732 -0.0391 -0.00104 -0.0007 E">
                                      <p:cBhvr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9117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52480" y="76212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Sylfaen"/>
              </a:rPr>
              <a:t>Brainstorming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352680" y="1523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entury Gothic"/>
              </a:rPr>
              <a:t>Number Th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143000" y="25146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us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219320" y="3352680"/>
            <a:ext cx="60195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raw a bub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nd write the topic ab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219320" y="4114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Brainstor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3581280" y="54864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Now look for words that connect with each other. Circle the words and connect them with 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2"/>
          <p:cNvGrpSpPr/>
          <p:nvPr/>
        </p:nvGrpSpPr>
        <p:grpSpPr>
          <a:xfrm>
            <a:off x="3505320" y="1905120"/>
            <a:ext cx="5181480" cy="3352680"/>
            <a:chOff x="3505320" y="1905120"/>
            <a:chExt cx="5181480" cy="3352680"/>
          </a:xfrm>
        </p:grpSpPr>
        <p:sp>
          <p:nvSpPr>
            <p:cNvPr id="113" name="Oval 8"/>
            <p:cNvSpPr/>
            <p:nvPr/>
          </p:nvSpPr>
          <p:spPr>
            <a:xfrm>
              <a:off x="3505320" y="2209680"/>
              <a:ext cx="518148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3657600" y="1905120"/>
              <a:ext cx="4648320" cy="33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Warm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by Kruffy"/>
                </a:rPr>
                <a:t>rainforests disappearin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rostile"/>
                </a:rPr>
                <a:t>extinc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emission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Staccato222 BT"/>
                </a:rPr>
                <a:t>dangero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dying animal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Bremen Bd BT"/>
                </a:rPr>
                <a:t>toxi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roobie"/>
                </a:rPr>
                <a:t>world w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Cars/SUVs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facto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landscape change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lba"/>
                </a:rPr>
                <a:t>no iceber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ensive to fix? </a:t>
              </a:r>
              <a:r>
                <a:rPr b="0" lang="en-US" sz="1800" spc="-1" strike="noStrike">
                  <a:solidFill>
                    <a:srgbClr val="000000"/>
                  </a:solidFill>
                  <a:latin typeface="Frosty"/>
                </a:rPr>
                <a:t>hurricane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nhardFashion BT"/>
                </a:rPr>
                <a:t>Reversible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35"/>
          <p:cNvGrpSpPr/>
          <p:nvPr/>
        </p:nvGrpSpPr>
        <p:grpSpPr>
          <a:xfrm>
            <a:off x="3886200" y="2362320"/>
            <a:ext cx="3809880" cy="2057400"/>
            <a:chOff x="3886200" y="2362320"/>
            <a:chExt cx="3809880" cy="2057400"/>
          </a:xfrm>
        </p:grpSpPr>
        <p:sp>
          <p:nvSpPr>
            <p:cNvPr id="116" name="Oval 24"/>
            <p:cNvSpPr/>
            <p:nvPr/>
          </p:nvSpPr>
          <p:spPr>
            <a:xfrm>
              <a:off x="6324480" y="3886200"/>
              <a:ext cx="13716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5"/>
            <p:cNvSpPr/>
            <p:nvPr/>
          </p:nvSpPr>
          <p:spPr>
            <a:xfrm>
              <a:off x="4800600" y="2362320"/>
              <a:ext cx="24382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6"/>
            <p:cNvSpPr/>
            <p:nvPr/>
          </p:nvSpPr>
          <p:spPr>
            <a:xfrm>
              <a:off x="4191120" y="4038480"/>
              <a:ext cx="175248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7"/>
            <p:cNvSpPr/>
            <p:nvPr/>
          </p:nvSpPr>
          <p:spPr>
            <a:xfrm>
              <a:off x="3886200" y="3200400"/>
              <a:ext cx="12952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8"/>
            <p:cNvSpPr/>
            <p:nvPr/>
          </p:nvSpPr>
          <p:spPr>
            <a:xfrm flipH="1">
              <a:off x="4952880" y="27432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0"/>
            <p:cNvSpPr/>
            <p:nvPr/>
          </p:nvSpPr>
          <p:spPr>
            <a:xfrm flipH="1" flipV="1">
              <a:off x="4343040" y="358128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1"/>
            <p:cNvSpPr/>
            <p:nvPr/>
          </p:nvSpPr>
          <p:spPr>
            <a:xfrm>
              <a:off x="5867280" y="4114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2"/>
            <p:cNvSpPr/>
            <p:nvPr/>
          </p:nvSpPr>
          <p:spPr>
            <a:xfrm flipH="1" flipV="1">
              <a:off x="6705360" y="2666520"/>
              <a:ext cx="759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2000">
    <p:wipe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6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8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371600" y="685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Sylfaen"/>
              </a:rPr>
              <a:t>Brainstorming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352680" y="1523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entury Gothic"/>
              </a:rPr>
              <a:t>Number F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143000" y="25146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Listing or Bull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219320" y="312408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reate a list of terms/ideas/concepts about the topic. Create multiple lists depending on the purp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371600" y="4267080"/>
            <a:ext cx="62485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xic fu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Vs/C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f/Disbel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yoto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0"/>
          <p:cNvGrpSpPr/>
          <p:nvPr/>
        </p:nvGrpSpPr>
        <p:grpSpPr>
          <a:xfrm>
            <a:off x="1523880" y="4495680"/>
            <a:ext cx="2971800" cy="1828800"/>
            <a:chOff x="1523880" y="4495680"/>
            <a:chExt cx="2971800" cy="1828800"/>
          </a:xfrm>
        </p:grpSpPr>
        <p:sp>
          <p:nvSpPr>
            <p:cNvPr id="130" name="Oval 7"/>
            <p:cNvSpPr/>
            <p:nvPr/>
          </p:nvSpPr>
          <p:spPr>
            <a:xfrm>
              <a:off x="1523880" y="5867280"/>
              <a:ext cx="175284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 flipV="1">
              <a:off x="3048120" y="4495680"/>
              <a:ext cx="144756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4114800" y="4267080"/>
            <a:ext cx="23623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f/Disbel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tists disa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Amer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/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occurrence or abnormal ev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417 0.00439 L -0.18993 0.13615 L -0.17622 0.00439 L -0.16198 0.13615 L -0.14757 0.00439 L -0.13403 0.13615 L -0.11979 0.00439 L -0.10608 0.13615 L -0.09167 0.00439 L -0.07743 0.13615 L -0.06372 0.00439 L -0.04948 0.13615 L -0.03594 0.00439 L -0.02153 0.13615 L -0.00729 0.00439 L 0.00642 0.13615 L 0.02083 0.00439 E">
                                      <p:cBhvr>
                                        <p:cTn id="382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52280" y="68580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Sylfaen"/>
              </a:rPr>
              <a:t>Brainstorming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352680" y="1523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entury Gothic"/>
              </a:rPr>
              <a:t>Number F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14300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Ven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219320" y="3124080"/>
            <a:ext cx="6400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raw two circles that connect,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ist two topics above the cir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Brainstorm about the topics – what do they have in common and what is unique about each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8"/>
          <p:cNvGrpSpPr/>
          <p:nvPr/>
        </p:nvGrpSpPr>
        <p:grpSpPr>
          <a:xfrm>
            <a:off x="5725800" y="2072520"/>
            <a:ext cx="2732400" cy="1890000"/>
            <a:chOff x="5725800" y="2072520"/>
            <a:chExt cx="2732400" cy="1890000"/>
          </a:xfrm>
        </p:grpSpPr>
        <p:sp>
          <p:nvSpPr>
            <p:cNvPr id="138" name="Oval 11"/>
            <p:cNvSpPr/>
            <p:nvPr/>
          </p:nvSpPr>
          <p:spPr>
            <a:xfrm>
              <a:off x="5791320" y="2514600"/>
              <a:ext cx="1828800" cy="1447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2"/>
            <p:cNvSpPr/>
            <p:nvPr/>
          </p:nvSpPr>
          <p:spPr>
            <a:xfrm>
              <a:off x="6553080" y="2514600"/>
              <a:ext cx="1905120" cy="1447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WordArt 13"/>
            <p:cNvSpPr txBox="1"/>
            <p:nvPr/>
          </p:nvSpPr>
          <p:spPr>
            <a:xfrm rot="20691000">
              <a:off x="5759280" y="2265120"/>
              <a:ext cx="936720" cy="3808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564062"/>
                </a:avLst>
              </a:prstTxWarp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Paris, France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1" name="WordArt 14"/>
            <p:cNvSpPr txBox="1"/>
            <p:nvPr/>
          </p:nvSpPr>
          <p:spPr>
            <a:xfrm rot="1096200">
              <a:off x="7391160" y="2209680"/>
              <a:ext cx="936360" cy="381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564062"/>
                </a:avLst>
              </a:prstTxWarp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Paris, Texas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6781680" y="2895480"/>
              <a:ext cx="6098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iffel Tow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6"/>
            <p:cNvSpPr/>
            <p:nvPr/>
          </p:nvSpPr>
          <p:spPr>
            <a:xfrm>
              <a:off x="5867280" y="2895480"/>
              <a:ext cx="762120" cy="8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ecame Paris in 400 A.D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rancoph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7"/>
            <p:cNvSpPr/>
            <p:nvPr/>
          </p:nvSpPr>
          <p:spPr>
            <a:xfrm>
              <a:off x="7543800" y="2895480"/>
              <a:ext cx="762120" cy="7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unty sea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gloph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ounded in 183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2000">
    <p:wheel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7 -0.00671 L -0.03993 0.12506 L -0.02622 -0.00671 L -0.01198 0.12506 L 0.00243 -0.00671 L 0.01597 0.12506 L 0.03021 -0.00671 L 0.04392 0.12506 L 0.05833 -0.00671 L 0.07257 0.12506 L 0.08628 -0.00671 L 0.10052 0.12506 L 0.11406 -0.00671 L 0.12847 0.12506 L 0.14271 -0.00671 L 0.15642 0.12506 L 0.17083 -0.00671 E">
                                      <p:cBhvr>
                                        <p:cTn id="432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828800" y="68580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Sylfaen"/>
              </a:rPr>
              <a:t>Brainstorming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352680" y="1523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entury Gothic"/>
              </a:rPr>
              <a:t>Number F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14300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Ven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219320" y="3124080"/>
            <a:ext cx="6400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en is it us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en you are writing a comparison or contrast ess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6"/>
          <p:cNvGrpSpPr/>
          <p:nvPr/>
        </p:nvGrpSpPr>
        <p:grpSpPr>
          <a:xfrm>
            <a:off x="2560680" y="3988440"/>
            <a:ext cx="3947400" cy="2107080"/>
            <a:chOff x="2560680" y="3988440"/>
            <a:chExt cx="3947400" cy="2107080"/>
          </a:xfrm>
        </p:grpSpPr>
        <p:sp>
          <p:nvSpPr>
            <p:cNvPr id="150" name="Oval 7"/>
            <p:cNvSpPr/>
            <p:nvPr/>
          </p:nvSpPr>
          <p:spPr>
            <a:xfrm>
              <a:off x="2637360" y="4522320"/>
              <a:ext cx="2654640" cy="157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8"/>
            <p:cNvSpPr/>
            <p:nvPr/>
          </p:nvSpPr>
          <p:spPr>
            <a:xfrm>
              <a:off x="3742920" y="4522320"/>
              <a:ext cx="2765160" cy="157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WordArt 9"/>
            <p:cNvSpPr txBox="1"/>
            <p:nvPr/>
          </p:nvSpPr>
          <p:spPr>
            <a:xfrm rot="20691000">
              <a:off x="2590920" y="4251240"/>
              <a:ext cx="1359720" cy="413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564062"/>
                </a:avLst>
              </a:prstTxWarp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Paris, France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3" name="WordArt 10"/>
            <p:cNvSpPr txBox="1"/>
            <p:nvPr/>
          </p:nvSpPr>
          <p:spPr>
            <a:xfrm rot="1096200">
              <a:off x="4959720" y="4190760"/>
              <a:ext cx="1359000" cy="414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564062"/>
                </a:avLst>
              </a:prstTxWarp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Paris, Texas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4" name="Text Box 11"/>
            <p:cNvSpPr/>
            <p:nvPr/>
          </p:nvSpPr>
          <p:spPr>
            <a:xfrm>
              <a:off x="4074840" y="4936320"/>
              <a:ext cx="8848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iffel Tow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2"/>
            <p:cNvSpPr/>
            <p:nvPr/>
          </p:nvSpPr>
          <p:spPr>
            <a:xfrm>
              <a:off x="2747520" y="4936320"/>
              <a:ext cx="1106280" cy="7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ecame Paris in 400 A.D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rancoph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3"/>
            <p:cNvSpPr/>
            <p:nvPr/>
          </p:nvSpPr>
          <p:spPr>
            <a:xfrm>
              <a:off x="5181120" y="4936320"/>
              <a:ext cx="110628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unty sea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gloph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ounded in 183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14" descr="MPj04015100000[1]"/>
          <p:cNvPicPr/>
          <p:nvPr/>
        </p:nvPicPr>
        <p:blipFill>
          <a:blip r:embed="rId1"/>
          <a:stretch/>
        </p:blipFill>
        <p:spPr>
          <a:xfrm>
            <a:off x="685800" y="4038480"/>
            <a:ext cx="1573200" cy="2359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8" descr="tower"/>
          <p:cNvPicPr/>
          <p:nvPr/>
        </p:nvPicPr>
        <p:blipFill>
          <a:blip r:embed="rId2"/>
          <a:stretch/>
        </p:blipFill>
        <p:spPr>
          <a:xfrm>
            <a:off x="6781680" y="4038480"/>
            <a:ext cx="1771920" cy="23623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heel spokes="1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52280" y="68580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Sylfaen"/>
              </a:rPr>
              <a:t>Brainstorming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352680" y="1523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entury Gothic"/>
              </a:rPr>
              <a:t>Number S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14300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re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219320" y="312408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s diagram has a central idea to which you add branches that focus on de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4"/>
          <p:cNvGrpSpPr/>
          <p:nvPr/>
        </p:nvGrpSpPr>
        <p:grpSpPr>
          <a:xfrm>
            <a:off x="1599840" y="4419720"/>
            <a:ext cx="4800960" cy="761760"/>
            <a:chOff x="1599840" y="4419720"/>
            <a:chExt cx="4800960" cy="761760"/>
          </a:xfrm>
        </p:grpSpPr>
        <p:sp>
          <p:nvSpPr>
            <p:cNvPr id="164" name="Line 11"/>
            <p:cNvSpPr/>
            <p:nvPr/>
          </p:nvSpPr>
          <p:spPr>
            <a:xfrm flipH="1">
              <a:off x="1599840" y="4419720"/>
              <a:ext cx="236196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2"/>
            <p:cNvSpPr/>
            <p:nvPr/>
          </p:nvSpPr>
          <p:spPr>
            <a:xfrm>
              <a:off x="3962160" y="4419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3"/>
            <p:cNvSpPr/>
            <p:nvPr/>
          </p:nvSpPr>
          <p:spPr>
            <a:xfrm>
              <a:off x="3962160" y="4419720"/>
              <a:ext cx="24386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9"/>
          <p:cNvGrpSpPr/>
          <p:nvPr/>
        </p:nvGrpSpPr>
        <p:grpSpPr>
          <a:xfrm>
            <a:off x="838080" y="5257800"/>
            <a:ext cx="1219320" cy="533160"/>
            <a:chOff x="838080" y="5257800"/>
            <a:chExt cx="1219320" cy="533160"/>
          </a:xfrm>
        </p:grpSpPr>
        <p:grpSp>
          <p:nvGrpSpPr>
            <p:cNvPr id="168" name="Group 18"/>
            <p:cNvGrpSpPr/>
            <p:nvPr/>
          </p:nvGrpSpPr>
          <p:grpSpPr>
            <a:xfrm>
              <a:off x="838080" y="5257800"/>
              <a:ext cx="609840" cy="533160"/>
              <a:chOff x="838080" y="5257800"/>
              <a:chExt cx="609840" cy="533160"/>
            </a:xfrm>
          </p:grpSpPr>
          <p:sp>
            <p:nvSpPr>
              <p:cNvPr id="169" name="Line 15"/>
              <p:cNvSpPr/>
              <p:nvPr/>
            </p:nvSpPr>
            <p:spPr>
              <a:xfrm flipH="1">
                <a:off x="838080" y="5257800"/>
                <a:ext cx="6098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6"/>
              <p:cNvSpPr/>
              <p:nvPr/>
            </p:nvSpPr>
            <p:spPr>
              <a:xfrm>
                <a:off x="1447920" y="5257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17"/>
            <p:cNvSpPr/>
            <p:nvPr/>
          </p:nvSpPr>
          <p:spPr>
            <a:xfrm>
              <a:off x="1447920" y="525780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5867280" y="5257800"/>
            <a:ext cx="1219320" cy="533160"/>
            <a:chOff x="5867280" y="5257800"/>
            <a:chExt cx="1219320" cy="533160"/>
          </a:xfrm>
        </p:grpSpPr>
        <p:grpSp>
          <p:nvGrpSpPr>
            <p:cNvPr id="173" name="Group 21"/>
            <p:cNvGrpSpPr/>
            <p:nvPr/>
          </p:nvGrpSpPr>
          <p:grpSpPr>
            <a:xfrm>
              <a:off x="5867280" y="5257800"/>
              <a:ext cx="609840" cy="533160"/>
              <a:chOff x="5867280" y="5257800"/>
              <a:chExt cx="609840" cy="533160"/>
            </a:xfrm>
          </p:grpSpPr>
          <p:sp>
            <p:nvSpPr>
              <p:cNvPr id="174" name="Line 22"/>
              <p:cNvSpPr/>
              <p:nvPr/>
            </p:nvSpPr>
            <p:spPr>
              <a:xfrm flipH="1">
                <a:off x="5867280" y="5257800"/>
                <a:ext cx="6098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23"/>
              <p:cNvSpPr/>
              <p:nvPr/>
            </p:nvSpPr>
            <p:spPr>
              <a:xfrm>
                <a:off x="6477120" y="5257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4"/>
            <p:cNvSpPr/>
            <p:nvPr/>
          </p:nvSpPr>
          <p:spPr>
            <a:xfrm>
              <a:off x="6477120" y="525780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5"/>
          <p:cNvGrpSpPr/>
          <p:nvPr/>
        </p:nvGrpSpPr>
        <p:grpSpPr>
          <a:xfrm>
            <a:off x="3352680" y="5410080"/>
            <a:ext cx="1219320" cy="533160"/>
            <a:chOff x="3352680" y="5410080"/>
            <a:chExt cx="1219320" cy="533160"/>
          </a:xfrm>
        </p:grpSpPr>
        <p:grpSp>
          <p:nvGrpSpPr>
            <p:cNvPr id="178" name="Group 26"/>
            <p:cNvGrpSpPr/>
            <p:nvPr/>
          </p:nvGrpSpPr>
          <p:grpSpPr>
            <a:xfrm>
              <a:off x="3352680" y="5410080"/>
              <a:ext cx="609840" cy="533160"/>
              <a:chOff x="3352680" y="5410080"/>
              <a:chExt cx="609840" cy="533160"/>
            </a:xfrm>
          </p:grpSpPr>
          <p:sp>
            <p:nvSpPr>
              <p:cNvPr id="179" name="Line 27"/>
              <p:cNvSpPr/>
              <p:nvPr/>
            </p:nvSpPr>
            <p:spPr>
              <a:xfrm flipH="1">
                <a:off x="3352680" y="5410080"/>
                <a:ext cx="6098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28"/>
              <p:cNvSpPr/>
              <p:nvPr/>
            </p:nvSpPr>
            <p:spPr>
              <a:xfrm>
                <a:off x="3962520" y="541008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9"/>
            <p:cNvSpPr/>
            <p:nvPr/>
          </p:nvSpPr>
          <p:spPr>
            <a:xfrm>
              <a:off x="3962520" y="541008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2000">
    <p:wheel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439 L 0.01423 0.12746 L 0.02795 -0.00439 L 0.04218 0.12746 L 0.05659 -0.00439 L 0.07014 0.12746 L 0.08437 -0.00439 L 0.09809 0.12746 L 0.1125 -0.00439 L 0.12673 0.12746 L 0.14045 -0.00439 L 0.15468 0.12746 L 0.16823 -0.00439 L 0.18264 0.12746 L 0.19687 -0.00439 L 0.21059 0.12746 L 0.225 -0.00439 E">
                                      <p:cBhvr>
                                        <p:cTn id="49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"/>
                            </p:stCondLst>
                            <p:childTnLst>
                              <p:par>
                                <p:cTn id="5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3"/>
          <p:cNvSpPr/>
          <p:nvPr/>
        </p:nvSpPr>
        <p:spPr>
          <a:xfrm>
            <a:off x="3352680" y="1523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entury Gothic"/>
              </a:rPr>
              <a:t>Number S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14300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re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219320" y="3124080"/>
            <a:ext cx="6400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en do you use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s type of diagram is helpful in classification ess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1"/>
          <p:cNvGrpSpPr/>
          <p:nvPr/>
        </p:nvGrpSpPr>
        <p:grpSpPr>
          <a:xfrm>
            <a:off x="1599840" y="4419720"/>
            <a:ext cx="4800960" cy="761760"/>
            <a:chOff x="1599840" y="4419720"/>
            <a:chExt cx="4800960" cy="761760"/>
          </a:xfrm>
        </p:grpSpPr>
        <p:sp>
          <p:nvSpPr>
            <p:cNvPr id="186" name="Line 12"/>
            <p:cNvSpPr/>
            <p:nvPr/>
          </p:nvSpPr>
          <p:spPr>
            <a:xfrm flipH="1">
              <a:off x="1599840" y="4419720"/>
              <a:ext cx="236196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3"/>
            <p:cNvSpPr/>
            <p:nvPr/>
          </p:nvSpPr>
          <p:spPr>
            <a:xfrm>
              <a:off x="3962160" y="4419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4"/>
            <p:cNvSpPr/>
            <p:nvPr/>
          </p:nvSpPr>
          <p:spPr>
            <a:xfrm>
              <a:off x="3962160" y="4419720"/>
              <a:ext cx="24386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5"/>
          <p:cNvGrpSpPr/>
          <p:nvPr/>
        </p:nvGrpSpPr>
        <p:grpSpPr>
          <a:xfrm>
            <a:off x="838080" y="5257800"/>
            <a:ext cx="1219320" cy="533160"/>
            <a:chOff x="838080" y="5257800"/>
            <a:chExt cx="1219320" cy="533160"/>
          </a:xfrm>
        </p:grpSpPr>
        <p:grpSp>
          <p:nvGrpSpPr>
            <p:cNvPr id="190" name="Group 16"/>
            <p:cNvGrpSpPr/>
            <p:nvPr/>
          </p:nvGrpSpPr>
          <p:grpSpPr>
            <a:xfrm>
              <a:off x="838080" y="5257800"/>
              <a:ext cx="609840" cy="533160"/>
              <a:chOff x="838080" y="5257800"/>
              <a:chExt cx="609840" cy="533160"/>
            </a:xfrm>
          </p:grpSpPr>
          <p:sp>
            <p:nvSpPr>
              <p:cNvPr id="191" name="Line 17"/>
              <p:cNvSpPr/>
              <p:nvPr/>
            </p:nvSpPr>
            <p:spPr>
              <a:xfrm flipH="1">
                <a:off x="838080" y="5257800"/>
                <a:ext cx="6098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8"/>
              <p:cNvSpPr/>
              <p:nvPr/>
            </p:nvSpPr>
            <p:spPr>
              <a:xfrm>
                <a:off x="1447920" y="5257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Line 19"/>
            <p:cNvSpPr/>
            <p:nvPr/>
          </p:nvSpPr>
          <p:spPr>
            <a:xfrm>
              <a:off x="1447920" y="525780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20"/>
          <p:cNvGrpSpPr/>
          <p:nvPr/>
        </p:nvGrpSpPr>
        <p:grpSpPr>
          <a:xfrm>
            <a:off x="3352680" y="5486400"/>
            <a:ext cx="1219320" cy="533160"/>
            <a:chOff x="3352680" y="5486400"/>
            <a:chExt cx="1219320" cy="533160"/>
          </a:xfrm>
        </p:grpSpPr>
        <p:grpSp>
          <p:nvGrpSpPr>
            <p:cNvPr id="195" name="Group 21"/>
            <p:cNvGrpSpPr/>
            <p:nvPr/>
          </p:nvGrpSpPr>
          <p:grpSpPr>
            <a:xfrm>
              <a:off x="3352680" y="5486400"/>
              <a:ext cx="609840" cy="533160"/>
              <a:chOff x="3352680" y="5486400"/>
              <a:chExt cx="609840" cy="533160"/>
            </a:xfrm>
          </p:grpSpPr>
          <p:sp>
            <p:nvSpPr>
              <p:cNvPr id="196" name="Line 22"/>
              <p:cNvSpPr/>
              <p:nvPr/>
            </p:nvSpPr>
            <p:spPr>
              <a:xfrm flipH="1">
                <a:off x="3352680" y="5486400"/>
                <a:ext cx="6098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23"/>
              <p:cNvSpPr/>
              <p:nvPr/>
            </p:nvSpPr>
            <p:spPr>
              <a:xfrm>
                <a:off x="3962520" y="54864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Line 24"/>
            <p:cNvSpPr/>
            <p:nvPr/>
          </p:nvSpPr>
          <p:spPr>
            <a:xfrm>
              <a:off x="3962520" y="548640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25"/>
          <p:cNvGrpSpPr/>
          <p:nvPr/>
        </p:nvGrpSpPr>
        <p:grpSpPr>
          <a:xfrm>
            <a:off x="5790960" y="5257800"/>
            <a:ext cx="1218960" cy="533160"/>
            <a:chOff x="5790960" y="5257800"/>
            <a:chExt cx="1218960" cy="533160"/>
          </a:xfrm>
        </p:grpSpPr>
        <p:grpSp>
          <p:nvGrpSpPr>
            <p:cNvPr id="200" name="Group 26"/>
            <p:cNvGrpSpPr/>
            <p:nvPr/>
          </p:nvGrpSpPr>
          <p:grpSpPr>
            <a:xfrm>
              <a:off x="5790960" y="5257800"/>
              <a:ext cx="609840" cy="533160"/>
              <a:chOff x="5790960" y="5257800"/>
              <a:chExt cx="609840" cy="533160"/>
            </a:xfrm>
          </p:grpSpPr>
          <p:sp>
            <p:nvSpPr>
              <p:cNvPr id="201" name="Line 27"/>
              <p:cNvSpPr/>
              <p:nvPr/>
            </p:nvSpPr>
            <p:spPr>
              <a:xfrm flipH="1">
                <a:off x="5790960" y="5257800"/>
                <a:ext cx="6094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28"/>
              <p:cNvSpPr/>
              <p:nvPr/>
            </p:nvSpPr>
            <p:spPr>
              <a:xfrm>
                <a:off x="6400800" y="5257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Line 29"/>
            <p:cNvSpPr/>
            <p:nvPr/>
          </p:nvSpPr>
          <p:spPr>
            <a:xfrm>
              <a:off x="6400800" y="5257800"/>
              <a:ext cx="609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30"/>
          <p:cNvSpPr/>
          <p:nvPr/>
        </p:nvSpPr>
        <p:spPr>
          <a:xfrm>
            <a:off x="2895480" y="40384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838080" y="4876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5715000" y="4800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3352680" y="5105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0" y="5791320"/>
            <a:ext cx="281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pap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gazin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ok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5105520" y="5867280"/>
            <a:ext cx="281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vis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b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v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7"/>
          <p:cNvSpPr/>
          <p:nvPr/>
        </p:nvSpPr>
        <p:spPr>
          <a:xfrm>
            <a:off x="2666880" y="6019920"/>
            <a:ext cx="281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sset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9"/>
          <p:cNvSpPr/>
          <p:nvPr/>
        </p:nvSpPr>
        <p:spPr>
          <a:xfrm>
            <a:off x="1447920" y="6858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Sylfaen"/>
              </a:rPr>
              <a:t>Brainstorming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blinds dir="horz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3000"/>
                            </p:stCondLst>
                            <p:childTnLst>
                              <p:par>
                                <p:cTn id="5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500"/>
                            </p:stCondLst>
                            <p:childTnLst>
                              <p:par>
                                <p:cTn id="5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7500"/>
                            </p:stCondLst>
                            <p:childTnLst>
                              <p:par>
                                <p:cTn id="5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52280" y="685800"/>
            <a:ext cx="58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Sylfaen"/>
              </a:rPr>
              <a:t>Brainstorming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352680" y="1523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entury Gothic"/>
              </a:rPr>
              <a:t>Number S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143000" y="25146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ct like a Journ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219320" y="3124080"/>
            <a:ext cx="6400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Using the question words in English to explore the top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838080" y="42670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1371600" y="5410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5334120" y="4876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228600" y="4952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5181480" y="4343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4724280" y="56386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8" descr="MCDD00864_0000[1]"/>
          <p:cNvPicPr/>
          <p:nvPr/>
        </p:nvPicPr>
        <p:blipFill>
          <a:blip r:embed="rId1"/>
          <a:stretch/>
        </p:blipFill>
        <p:spPr>
          <a:xfrm>
            <a:off x="3276720" y="4114800"/>
            <a:ext cx="2049480" cy="211464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blinds dir="vert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439 L 0.01423 0.12746 L 0.02795 -0.00439 L 0.04218 0.12746 L 0.05659 -0.00439 L 0.07014 0.12746 L 0.08437 -0.00439 L 0.09809 0.12746 L 0.1125 -0.00439 L 0.12673 0.12746 L 0.14045 -0.00439 L 0.15468 0.12746 L 0.16823 -0.00439 L 0.18264 0.12746 L 0.19687 -0.00439 L 0.21059 0.12746 L 0.225 -0.00439 E">
                                      <p:cBhvr>
                                        <p:cTn id="581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000"/>
                            </p:stCondLst>
                            <p:childTnLst>
                              <p:par>
                                <p:cTn id="5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0"/>
                            </p:stCondLst>
                            <p:childTnLst>
                              <p:par>
                                <p:cTn id="6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7000"/>
                            </p:stCondLst>
                            <p:childTnLst>
                              <p:par>
                                <p:cTn id="6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828800" y="76212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Sylfaen"/>
              </a:rPr>
              <a:t>Brainstorming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3352680" y="1523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entury Gothic"/>
              </a:rPr>
              <a:t>Number S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143000" y="25146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ct like a Journ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219320" y="3124080"/>
            <a:ext cx="6400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en is it usefu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Use this technique when you want to write a narr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5"/>
          <p:cNvGrpSpPr/>
          <p:nvPr/>
        </p:nvGrpSpPr>
        <p:grpSpPr>
          <a:xfrm>
            <a:off x="228600" y="4038480"/>
            <a:ext cx="8534520" cy="2114640"/>
            <a:chOff x="228600" y="4038480"/>
            <a:chExt cx="8534520" cy="2114640"/>
          </a:xfrm>
        </p:grpSpPr>
        <p:sp>
          <p:nvSpPr>
            <p:cNvPr id="228" name="Text Box 6"/>
            <p:cNvSpPr/>
            <p:nvPr/>
          </p:nvSpPr>
          <p:spPr>
            <a:xfrm>
              <a:off x="838080" y="426708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o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8"/>
            <p:cNvSpPr/>
            <p:nvPr/>
          </p:nvSpPr>
          <p:spPr>
            <a:xfrm>
              <a:off x="5562720" y="487692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en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7"/>
            <p:cNvSpPr/>
            <p:nvPr/>
          </p:nvSpPr>
          <p:spPr>
            <a:xfrm>
              <a:off x="1371600" y="541008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at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9"/>
            <p:cNvSpPr/>
            <p:nvPr/>
          </p:nvSpPr>
          <p:spPr>
            <a:xfrm>
              <a:off x="228600" y="495288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ere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0"/>
            <p:cNvSpPr/>
            <p:nvPr/>
          </p:nvSpPr>
          <p:spPr>
            <a:xfrm>
              <a:off x="5105520" y="40384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y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1"/>
            <p:cNvSpPr/>
            <p:nvPr/>
          </p:nvSpPr>
          <p:spPr>
            <a:xfrm>
              <a:off x="4724280" y="5638680"/>
              <a:ext cx="31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w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Picture 12" descr="MCDD00864_0000[1]"/>
            <p:cNvPicPr/>
            <p:nvPr/>
          </p:nvPicPr>
          <p:blipFill>
            <a:blip r:embed="rId1"/>
            <a:stretch/>
          </p:blipFill>
          <p:spPr>
            <a:xfrm>
              <a:off x="3200400" y="4038480"/>
              <a:ext cx="2049480" cy="2114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12000">
    <p:checker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52280" y="68580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Sylfaen"/>
              </a:rPr>
              <a:t>Brainstorming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3352680" y="1523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entury Gothic"/>
              </a:rPr>
              <a:t>Number 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4300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-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1219320" y="3124080"/>
            <a:ext cx="6400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Using a T shape, list a category that you want to compare or contrast about a specific topic or topics. Do this for a variety of categ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2819520" y="525780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743200" y="525780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20"/>
          <p:cNvGrpSpPr/>
          <p:nvPr/>
        </p:nvGrpSpPr>
        <p:grpSpPr>
          <a:xfrm>
            <a:off x="1828800" y="4495680"/>
            <a:ext cx="4572000" cy="1447920"/>
            <a:chOff x="1828800" y="4495680"/>
            <a:chExt cx="4572000" cy="1447920"/>
          </a:xfrm>
        </p:grpSpPr>
        <p:sp>
          <p:nvSpPr>
            <p:cNvPr id="242" name="Line 11"/>
            <p:cNvSpPr/>
            <p:nvPr/>
          </p:nvSpPr>
          <p:spPr>
            <a:xfrm>
              <a:off x="2666880" y="510552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2"/>
            <p:cNvSpPr/>
            <p:nvPr/>
          </p:nvSpPr>
          <p:spPr>
            <a:xfrm>
              <a:off x="4191120" y="51055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3"/>
            <p:cNvSpPr/>
            <p:nvPr/>
          </p:nvSpPr>
          <p:spPr>
            <a:xfrm>
              <a:off x="1828800" y="449568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osty"/>
                </a:rPr>
                <a:t>Paris, France and Paris Tex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4"/>
            <p:cNvSpPr/>
            <p:nvPr/>
          </p:nvSpPr>
          <p:spPr>
            <a:xfrm>
              <a:off x="3276720" y="480060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5"/>
            <p:cNvSpPr/>
            <p:nvPr/>
          </p:nvSpPr>
          <p:spPr>
            <a:xfrm>
              <a:off x="2743200" y="5181480"/>
              <a:ext cx="12952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rthern Fr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7"/>
            <p:cNvSpPr/>
            <p:nvPr/>
          </p:nvSpPr>
          <p:spPr>
            <a:xfrm>
              <a:off x="4267080" y="5181480"/>
              <a:ext cx="12956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9"/>
            <p:cNvSpPr/>
            <p:nvPr/>
          </p:nvSpPr>
          <p:spPr>
            <a:xfrm>
              <a:off x="4343400" y="5181480"/>
              <a:ext cx="12952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rth Ame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rthern Tex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2000">
    <p:checker dir="vert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439 L 0.01423 0.12746 L 0.02795 -0.00439 L 0.04218 0.12746 L 0.05659 -0.00439 L 0.07014 0.12746 L 0.08437 -0.00439 L 0.09809 0.12746 L 0.1125 -0.00439 L 0.12673 0.12746 L 0.14045 -0.00439 L 0.15468 0.12746 L 0.16823 -0.00439 L 0.18264 0.12746 L 0.19687 -0.00439 L 0.21059 0.12746 L 0.225 -0.00439 E">
                                      <p:cBhvr>
                                        <p:cTn id="736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4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4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3000"/>
                            </p:stCondLst>
                            <p:childTnLst>
                              <p:par>
                                <p:cTn id="7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1600200" y="68580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Sylfaen"/>
              </a:rPr>
              <a:t>Brainstorming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3352680" y="1523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entury Gothic"/>
              </a:rPr>
              <a:t>Number 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14300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-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219320" y="312408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en is it usefu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s technique helps when you are writing a contrast or comparison ess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2819520" y="525780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743200" y="525780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8"/>
          <p:cNvGrpSpPr/>
          <p:nvPr/>
        </p:nvGrpSpPr>
        <p:grpSpPr>
          <a:xfrm>
            <a:off x="1828800" y="4495680"/>
            <a:ext cx="4572000" cy="1447920"/>
            <a:chOff x="1828800" y="4495680"/>
            <a:chExt cx="4572000" cy="1447920"/>
          </a:xfrm>
        </p:grpSpPr>
        <p:sp>
          <p:nvSpPr>
            <p:cNvPr id="256" name="Line 9"/>
            <p:cNvSpPr/>
            <p:nvPr/>
          </p:nvSpPr>
          <p:spPr>
            <a:xfrm>
              <a:off x="2666880" y="510552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0"/>
            <p:cNvSpPr/>
            <p:nvPr/>
          </p:nvSpPr>
          <p:spPr>
            <a:xfrm>
              <a:off x="4191120" y="51055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1"/>
            <p:cNvSpPr/>
            <p:nvPr/>
          </p:nvSpPr>
          <p:spPr>
            <a:xfrm>
              <a:off x="1828800" y="449568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osty"/>
                </a:rPr>
                <a:t>Paris, France and Paris Tex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2"/>
            <p:cNvSpPr/>
            <p:nvPr/>
          </p:nvSpPr>
          <p:spPr>
            <a:xfrm>
              <a:off x="3276720" y="480060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3"/>
            <p:cNvSpPr/>
            <p:nvPr/>
          </p:nvSpPr>
          <p:spPr>
            <a:xfrm>
              <a:off x="2743200" y="5181480"/>
              <a:ext cx="12952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rthern Fr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4"/>
            <p:cNvSpPr/>
            <p:nvPr/>
          </p:nvSpPr>
          <p:spPr>
            <a:xfrm>
              <a:off x="4267080" y="5181480"/>
              <a:ext cx="12956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5"/>
            <p:cNvSpPr/>
            <p:nvPr/>
          </p:nvSpPr>
          <p:spPr>
            <a:xfrm>
              <a:off x="4343400" y="5181480"/>
              <a:ext cx="12952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rth Ame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rthern Tex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2000">
    <p:comb dir="horz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3"/>
          <p:cNvGrpSpPr/>
          <p:nvPr/>
        </p:nvGrpSpPr>
        <p:grpSpPr>
          <a:xfrm>
            <a:off x="2666880" y="1143000"/>
            <a:ext cx="4267440" cy="3417840"/>
            <a:chOff x="2666880" y="1143000"/>
            <a:chExt cx="4267440" cy="3417840"/>
          </a:xfrm>
        </p:grpSpPr>
        <p:pic>
          <p:nvPicPr>
            <p:cNvPr id="46" name="Picture 11" descr="MCj04299350000[1]"/>
            <p:cNvPicPr/>
            <p:nvPr/>
          </p:nvPicPr>
          <p:blipFill>
            <a:blip r:embed="rId2"/>
            <a:stretch/>
          </p:blipFill>
          <p:spPr>
            <a:xfrm>
              <a:off x="2666880" y="1143000"/>
              <a:ext cx="3962520" cy="32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2" descr="MCj04108150000[1]"/>
            <p:cNvPicPr/>
            <p:nvPr/>
          </p:nvPicPr>
          <p:blipFill>
            <a:blip r:embed="rId3"/>
            <a:stretch/>
          </p:blipFill>
          <p:spPr>
            <a:xfrm>
              <a:off x="5334120" y="3276720"/>
              <a:ext cx="1600200" cy="12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Picture 3" descr=""/>
          <p:cNvPicPr/>
          <p:nvPr/>
        </p:nvPicPr>
        <p:blipFill>
          <a:blip r:embed="rId4"/>
          <a:stretch/>
        </p:blipFill>
        <p:spPr>
          <a:xfrm>
            <a:off x="4495680" y="5486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514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ff"/>
                </a:solidFill>
                <a:latin typeface="Sylfaen"/>
              </a:rPr>
              <a:t>Brainstorm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The Key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Successful Essay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MCj04108150000[1]"/>
          <p:cNvPicPr/>
          <p:nvPr/>
        </p:nvPicPr>
        <p:blipFill>
          <a:blip r:embed="rId5"/>
          <a:stretch/>
        </p:blipFill>
        <p:spPr>
          <a:xfrm>
            <a:off x="5334120" y="3276720"/>
            <a:ext cx="1600200" cy="12841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5"/>
          <p:cNvSpPr/>
          <p:nvPr/>
        </p:nvSpPr>
        <p:spPr>
          <a:xfrm>
            <a:off x="844560" y="6248520"/>
            <a:ext cx="78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d from http://www.unc.edu/depts/wcweb/handouts/brainstorming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trips dir="l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338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1749E-006 L 3.33333E-006 -0.26648 E">
                                      <p:cBhvr>
                                        <p:cTn id="2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338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152280" y="68580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Sylfaen"/>
              </a:rPr>
              <a:t>Brainstorming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352680" y="1523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entury Gothic"/>
              </a:rPr>
              <a:t>Number N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14300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pok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219320" y="3124080"/>
            <a:ext cx="6400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rite the topic in a circle. Then think of about causes and effects.  Write these around the circle like spokes on a whe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3276720" y="5029200"/>
            <a:ext cx="2057400" cy="609480"/>
            <a:chOff x="3276720" y="5029200"/>
            <a:chExt cx="2057400" cy="609480"/>
          </a:xfrm>
        </p:grpSpPr>
        <p:sp>
          <p:nvSpPr>
            <p:cNvPr id="268" name="Oval 11"/>
            <p:cNvSpPr/>
            <p:nvPr/>
          </p:nvSpPr>
          <p:spPr>
            <a:xfrm>
              <a:off x="3276720" y="5029200"/>
              <a:ext cx="20574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2"/>
            <p:cNvSpPr/>
            <p:nvPr/>
          </p:nvSpPr>
          <p:spPr>
            <a:xfrm>
              <a:off x="3429000" y="51814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Warm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14"/>
          <p:cNvSpPr/>
          <p:nvPr/>
        </p:nvSpPr>
        <p:spPr>
          <a:xfrm>
            <a:off x="3048120" y="4114800"/>
            <a:ext cx="495288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 many peop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s/suv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ecycl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pping down t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3"/>
          <p:cNvGrpSpPr/>
          <p:nvPr/>
        </p:nvGrpSpPr>
        <p:grpSpPr>
          <a:xfrm>
            <a:off x="2819520" y="4343400"/>
            <a:ext cx="5029200" cy="914400"/>
            <a:chOff x="2819520" y="4343400"/>
            <a:chExt cx="5029200" cy="914400"/>
          </a:xfrm>
        </p:grpSpPr>
        <p:sp>
          <p:nvSpPr>
            <p:cNvPr id="272" name="Oval 15"/>
            <p:cNvSpPr/>
            <p:nvPr/>
          </p:nvSpPr>
          <p:spPr>
            <a:xfrm>
              <a:off x="2819520" y="4724280"/>
              <a:ext cx="137160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6"/>
            <p:cNvSpPr/>
            <p:nvPr/>
          </p:nvSpPr>
          <p:spPr>
            <a:xfrm>
              <a:off x="4800600" y="4343400"/>
              <a:ext cx="137160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7"/>
            <p:cNvSpPr/>
            <p:nvPr/>
          </p:nvSpPr>
          <p:spPr>
            <a:xfrm>
              <a:off x="4724280" y="4724280"/>
              <a:ext cx="137160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8"/>
            <p:cNvSpPr/>
            <p:nvPr/>
          </p:nvSpPr>
          <p:spPr>
            <a:xfrm>
              <a:off x="5943600" y="4952880"/>
              <a:ext cx="19051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4191120" y="487692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0"/>
            <p:cNvSpPr/>
            <p:nvPr/>
          </p:nvSpPr>
          <p:spPr>
            <a:xfrm flipH="1">
              <a:off x="4571640" y="4495680"/>
              <a:ext cx="3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1"/>
            <p:cNvSpPr/>
            <p:nvPr/>
          </p:nvSpPr>
          <p:spPr>
            <a:xfrm flipH="1">
              <a:off x="5105520" y="502920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2"/>
            <p:cNvSpPr/>
            <p:nvPr/>
          </p:nvSpPr>
          <p:spPr>
            <a:xfrm flipH="1">
              <a:off x="5257800" y="52578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2"/>
          <p:cNvGrpSpPr/>
          <p:nvPr/>
        </p:nvGrpSpPr>
        <p:grpSpPr>
          <a:xfrm>
            <a:off x="1523880" y="5486040"/>
            <a:ext cx="4876920" cy="1371960"/>
            <a:chOff x="1523880" y="5486040"/>
            <a:chExt cx="4876920" cy="1371960"/>
          </a:xfrm>
        </p:grpSpPr>
        <p:sp>
          <p:nvSpPr>
            <p:cNvPr id="281" name="Text Box 25"/>
            <p:cNvSpPr/>
            <p:nvPr/>
          </p:nvSpPr>
          <p:spPr>
            <a:xfrm>
              <a:off x="1828800" y="5638680"/>
              <a:ext cx="42670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azy weath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ss of polar ice cap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ying anim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6"/>
            <p:cNvSpPr/>
            <p:nvPr/>
          </p:nvSpPr>
          <p:spPr>
            <a:xfrm>
              <a:off x="1523880" y="5638680"/>
              <a:ext cx="228600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7"/>
            <p:cNvSpPr/>
            <p:nvPr/>
          </p:nvSpPr>
          <p:spPr>
            <a:xfrm>
              <a:off x="2743200" y="6095880"/>
              <a:ext cx="25909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28"/>
            <p:cNvSpPr/>
            <p:nvPr/>
          </p:nvSpPr>
          <p:spPr>
            <a:xfrm>
              <a:off x="4114800" y="6553080"/>
              <a:ext cx="228600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9"/>
            <p:cNvSpPr/>
            <p:nvPr/>
          </p:nvSpPr>
          <p:spPr>
            <a:xfrm flipV="1">
              <a:off x="2438280" y="5486040"/>
              <a:ext cx="9907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30"/>
            <p:cNvSpPr/>
            <p:nvPr/>
          </p:nvSpPr>
          <p:spPr>
            <a:xfrm flipV="1">
              <a:off x="4495680" y="5638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31"/>
            <p:cNvSpPr/>
            <p:nvPr/>
          </p:nvSpPr>
          <p:spPr>
            <a:xfrm flipH="1" flipV="1">
              <a:off x="4952520" y="5562360"/>
              <a:ext cx="12193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2000">
    <p:comb dir="horz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439 L 0.01423 0.12746 L 0.02795 -0.00439 L 0.04218 0.12746 L 0.05659 -0.00439 L 0.07014 0.12746 L 0.08437 -0.00439 L 0.09809 0.12746 L 0.1125 -0.00439 L 0.12673 0.12746 L 0.14045 -0.00439 L 0.15468 0.12746 L 0.16823 -0.00439 L 0.18264 0.12746 L 0.19687 -0.00439 L 0.21059 0.12746 L 0.225 -0.00439 E">
                                      <p:cBhvr>
                                        <p:cTn id="787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4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4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000"/>
                            </p:stCondLst>
                            <p:childTnLst>
                              <p:par>
                                <p:cTn id="7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385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5" dur="385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7" dur="38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9" dur="38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385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4" dur="385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6" dur="38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8" dur="38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1676520" y="76212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Sylfaen"/>
              </a:rPr>
              <a:t>Brainstorming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352680" y="1523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entury Gothic"/>
              </a:rPr>
              <a:t>Number N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14300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pok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1219320" y="312408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en is it usefu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Use this technique when you want to explore cause and ef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28"/>
          <p:cNvGrpSpPr/>
          <p:nvPr/>
        </p:nvGrpSpPr>
        <p:grpSpPr>
          <a:xfrm>
            <a:off x="1523880" y="3962520"/>
            <a:ext cx="6477120" cy="2743200"/>
            <a:chOff x="1523880" y="3962520"/>
            <a:chExt cx="6477120" cy="2743200"/>
          </a:xfrm>
        </p:grpSpPr>
        <p:sp>
          <p:nvSpPr>
            <p:cNvPr id="293" name="Text Box 9"/>
            <p:cNvSpPr/>
            <p:nvPr/>
          </p:nvSpPr>
          <p:spPr>
            <a:xfrm>
              <a:off x="3048120" y="3962520"/>
              <a:ext cx="4952880" cy="10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o many peopl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rs/suv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t recycling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opping down tre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27"/>
            <p:cNvGrpSpPr/>
            <p:nvPr/>
          </p:nvGrpSpPr>
          <p:grpSpPr>
            <a:xfrm>
              <a:off x="1523880" y="4191120"/>
              <a:ext cx="6324840" cy="2514600"/>
              <a:chOff x="1523880" y="4191120"/>
              <a:chExt cx="6324840" cy="2514600"/>
            </a:xfrm>
          </p:grpSpPr>
          <p:grpSp>
            <p:nvGrpSpPr>
              <p:cNvPr id="295" name="Group 6"/>
              <p:cNvGrpSpPr/>
              <p:nvPr/>
            </p:nvGrpSpPr>
            <p:grpSpPr>
              <a:xfrm>
                <a:off x="3276720" y="4876920"/>
                <a:ext cx="2057400" cy="609480"/>
                <a:chOff x="3276720" y="4876920"/>
                <a:chExt cx="2057400" cy="609480"/>
              </a:xfrm>
            </p:grpSpPr>
            <p:sp>
              <p:nvSpPr>
                <p:cNvPr id="296" name="Oval 7"/>
                <p:cNvSpPr/>
                <p:nvPr/>
              </p:nvSpPr>
              <p:spPr>
                <a:xfrm>
                  <a:off x="3276720" y="4876920"/>
                  <a:ext cx="2057400" cy="609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Text Box 8"/>
                <p:cNvSpPr/>
                <p:nvPr/>
              </p:nvSpPr>
              <p:spPr>
                <a:xfrm>
                  <a:off x="3429000" y="5029200"/>
                  <a:ext cx="1828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Global Warmin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10"/>
              <p:cNvGrpSpPr/>
              <p:nvPr/>
            </p:nvGrpSpPr>
            <p:grpSpPr>
              <a:xfrm>
                <a:off x="2819520" y="4191120"/>
                <a:ext cx="5029200" cy="914400"/>
                <a:chOff x="2819520" y="4191120"/>
                <a:chExt cx="5029200" cy="914400"/>
              </a:xfrm>
            </p:grpSpPr>
            <p:sp>
              <p:nvSpPr>
                <p:cNvPr id="299" name="Oval 11"/>
                <p:cNvSpPr/>
                <p:nvPr/>
              </p:nvSpPr>
              <p:spPr>
                <a:xfrm>
                  <a:off x="2819520" y="4572000"/>
                  <a:ext cx="1371600" cy="30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12"/>
                <p:cNvSpPr/>
                <p:nvPr/>
              </p:nvSpPr>
              <p:spPr>
                <a:xfrm>
                  <a:off x="4800600" y="4191120"/>
                  <a:ext cx="1371600" cy="30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13"/>
                <p:cNvSpPr/>
                <p:nvPr/>
              </p:nvSpPr>
              <p:spPr>
                <a:xfrm>
                  <a:off x="4724280" y="4572000"/>
                  <a:ext cx="1371600" cy="30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14"/>
                <p:cNvSpPr/>
                <p:nvPr/>
              </p:nvSpPr>
              <p:spPr>
                <a:xfrm>
                  <a:off x="5943600" y="4800600"/>
                  <a:ext cx="1905120" cy="30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5"/>
                <p:cNvSpPr/>
                <p:nvPr/>
              </p:nvSpPr>
              <p:spPr>
                <a:xfrm>
                  <a:off x="4191120" y="472464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6"/>
                <p:cNvSpPr/>
                <p:nvPr/>
              </p:nvSpPr>
              <p:spPr>
                <a:xfrm flipH="1">
                  <a:off x="4571640" y="4343400"/>
                  <a:ext cx="30492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7"/>
                <p:cNvSpPr/>
                <p:nvPr/>
              </p:nvSpPr>
              <p:spPr>
                <a:xfrm flipH="1">
                  <a:off x="5105520" y="4876920"/>
                  <a:ext cx="3045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8"/>
                <p:cNvSpPr/>
                <p:nvPr/>
              </p:nvSpPr>
              <p:spPr>
                <a:xfrm flipH="1">
                  <a:off x="5257800" y="51055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Group 19"/>
              <p:cNvGrpSpPr/>
              <p:nvPr/>
            </p:nvGrpSpPr>
            <p:grpSpPr>
              <a:xfrm>
                <a:off x="1523880" y="5333760"/>
                <a:ext cx="4876920" cy="1371960"/>
                <a:chOff x="1523880" y="5333760"/>
                <a:chExt cx="4876920" cy="1371960"/>
              </a:xfrm>
            </p:grpSpPr>
            <p:sp>
              <p:nvSpPr>
                <p:cNvPr id="308" name="Text Box 20"/>
                <p:cNvSpPr/>
                <p:nvPr/>
              </p:nvSpPr>
              <p:spPr>
                <a:xfrm>
                  <a:off x="1828800" y="5486400"/>
                  <a:ext cx="4267080" cy="12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razy weather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loss of polar ice caps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ying animal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21"/>
                <p:cNvSpPr/>
                <p:nvPr/>
              </p:nvSpPr>
              <p:spPr>
                <a:xfrm>
                  <a:off x="1523880" y="5486400"/>
                  <a:ext cx="2286000" cy="30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22"/>
                <p:cNvSpPr/>
                <p:nvPr/>
              </p:nvSpPr>
              <p:spPr>
                <a:xfrm>
                  <a:off x="2743200" y="5943600"/>
                  <a:ext cx="2590920" cy="30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23"/>
                <p:cNvSpPr/>
                <p:nvPr/>
              </p:nvSpPr>
              <p:spPr>
                <a:xfrm>
                  <a:off x="4114800" y="6400800"/>
                  <a:ext cx="2286000" cy="30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24"/>
                <p:cNvSpPr/>
                <p:nvPr/>
              </p:nvSpPr>
              <p:spPr>
                <a:xfrm flipV="1">
                  <a:off x="2438280" y="5333760"/>
                  <a:ext cx="9907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25"/>
                <p:cNvSpPr/>
                <p:nvPr/>
              </p:nvSpPr>
              <p:spPr>
                <a:xfrm flipV="1">
                  <a:off x="449568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26"/>
                <p:cNvSpPr/>
                <p:nvPr/>
              </p:nvSpPr>
              <p:spPr>
                <a:xfrm flipH="1" flipV="1">
                  <a:off x="4952520" y="5410080"/>
                  <a:ext cx="121932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med" advTm="12000">
    <p:plus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"/>
          <p:cNvSpPr/>
          <p:nvPr/>
        </p:nvSpPr>
        <p:spPr>
          <a:xfrm>
            <a:off x="609480" y="914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ff"/>
                </a:solidFill>
                <a:latin typeface="Sylfaen"/>
              </a:rPr>
              <a:t>Brainstorm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066680" y="2666880"/>
            <a:ext cx="693432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 our class, you will need to show evidence of the brainstorming technique that you used to begin the essay proce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’s part of your grade because it’s import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member to ask for help or clarification if you need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plit dir="in" orient="vert"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53352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ff"/>
                </a:solidFill>
                <a:latin typeface="Sylfaen"/>
              </a:rPr>
              <a:t>Brainstorm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066680" y="2438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at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170720" y="441792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y do we need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819520" y="3429000"/>
            <a:ext cx="419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219320" y="2895480"/>
            <a:ext cx="6553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 </a:t>
            </a:r>
            <a:r>
              <a:rPr b="1" lang="en-US" sz="1800" spc="-1" strike="noStrike">
                <a:solidFill>
                  <a:srgbClr val="333399"/>
                </a:solidFill>
                <a:latin typeface="Century Gothic"/>
              </a:rPr>
              <a:t>gathering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of ideas from your brain onto p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lang="en-US" sz="1800" spc="-1" strike="noStrike">
                <a:solidFill>
                  <a:srgbClr val="ff0066"/>
                </a:solidFill>
                <a:latin typeface="Century Gothic"/>
              </a:rPr>
              <a:t>variety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f ideas and the use of your </a:t>
            </a:r>
            <a:r>
              <a:rPr b="1" lang="en-US" sz="1800" spc="-1" strike="noStrike">
                <a:solidFill>
                  <a:srgbClr val="00ff00"/>
                </a:solidFill>
                <a:latin typeface="Century Gothic"/>
              </a:rPr>
              <a:t>imagination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assist you in producing a lot of material with which to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219320" y="50292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t’s the best way to collect your thou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t’s helpful for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t ensures only quality ideas are used in the ess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"/>
          <p:cNvPicPr/>
          <p:nvPr/>
        </p:nvPicPr>
        <p:blipFill>
          <a:blip r:embed="rId7"/>
          <a:stretch/>
        </p:blipFill>
        <p:spPr>
          <a:xfrm>
            <a:off x="426708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strips dir="l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76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767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52280" y="68580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Sylfaen"/>
              </a:rPr>
              <a:t>Brainstorming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352680" y="1523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entury Gothic"/>
              </a:rPr>
              <a:t>Number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143000" y="25146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ree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143000" y="3429000"/>
            <a:ext cx="7162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is it?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nk about the topic. Then write, write, write. Whatever comes into your brain – even if it doesn’t have to do with the topic. 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219320" y="327672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is paper is supposed to be on the politics of tobacco production but even though I went to all the lectures and read the book I can't think of what to say and I've felt this way for four minutes now and I have 11 minutes left and I wonder if I'll keep thinking nothing during every minute but I'm not sure if it matters that I am babbling and I don't know what else to say about this topic and it is rainy today and I never noticed the number of cracks in that wall before and those cracks remind me of the walls in my grandfather's study and he smoked and he farmed and I wonder why he didn't farm tobacco..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strips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83 -0.00671 L -0.0316 0.12506 L -0.01788 -0.00671 L -0.00365 0.12506 L 0.01076 -0.00671 L 0.02431 0.12506 L 0.03854 -0.00671 L 0.05226 0.12506 L 0.06667 -0.00671 L 0.0809 0.12506 L 0.09462 -0.00671 L 0.10885 0.12506 L 0.1224 -0.00671 L 0.13681 0.12506 L 0.15104 -0.00671 L 0.16476 0.12506 L 0.17917 -0.00671 E">
                                      <p:cBhvr>
                                        <p:cTn id="7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752480" y="76212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Sylfaen"/>
              </a:rPr>
              <a:t>Brainstorming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352680" y="1523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entury Gothic"/>
              </a:rPr>
              <a:t>Number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143000" y="25146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ree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143000" y="3429000"/>
            <a:ext cx="7162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O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rite for a specific tim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rite for a specific amount of pap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MCj04326020000[1]"/>
          <p:cNvPicPr/>
          <p:nvPr/>
        </p:nvPicPr>
        <p:blipFill>
          <a:blip r:embed="rId1"/>
          <a:stretch/>
        </p:blipFill>
        <p:spPr>
          <a:xfrm>
            <a:off x="5715000" y="28954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MCj04338680000[1]"/>
          <p:cNvPicPr/>
          <p:nvPr/>
        </p:nvPicPr>
        <p:blipFill>
          <a:blip r:embed="rId2"/>
          <a:stretch/>
        </p:blipFill>
        <p:spPr>
          <a:xfrm>
            <a:off x="5791320" y="42670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strips dir="ru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3352680" y="1523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entury Gothic"/>
              </a:rPr>
              <a:t>Number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43000" y="25146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ree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143000" y="3276720"/>
            <a:ext cx="7162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en is it helpfu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en you have NO ideas about a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en you have TOO MANY ideas about a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5"/>
          <p:cNvGrpSpPr/>
          <p:nvPr/>
        </p:nvGrpSpPr>
        <p:grpSpPr>
          <a:xfrm>
            <a:off x="6324480" y="4724280"/>
            <a:ext cx="1758960" cy="1773000"/>
            <a:chOff x="6324480" y="4724280"/>
            <a:chExt cx="1758960" cy="1773000"/>
          </a:xfrm>
        </p:grpSpPr>
        <p:pic>
          <p:nvPicPr>
            <p:cNvPr id="76" name="Picture 10" descr="MCBS01705_0000[1]"/>
            <p:cNvPicPr/>
            <p:nvPr/>
          </p:nvPicPr>
          <p:blipFill>
            <a:blip r:embed="rId1"/>
            <a:stretch/>
          </p:blipFill>
          <p:spPr>
            <a:xfrm>
              <a:off x="6324480" y="4724280"/>
              <a:ext cx="1758960" cy="17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1"/>
            <p:cNvSpPr/>
            <p:nvPr/>
          </p:nvSpPr>
          <p:spPr>
            <a:xfrm>
              <a:off x="7010280" y="495288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ybe I could say this or maybe I could say that… hm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3"/>
          <p:cNvGrpSpPr/>
          <p:nvPr/>
        </p:nvGrpSpPr>
        <p:grpSpPr>
          <a:xfrm>
            <a:off x="6324480" y="2286000"/>
            <a:ext cx="1758960" cy="1773360"/>
            <a:chOff x="6324480" y="2286000"/>
            <a:chExt cx="1758960" cy="1773360"/>
          </a:xfrm>
        </p:grpSpPr>
        <p:pic>
          <p:nvPicPr>
            <p:cNvPr id="79" name="Picture 9" descr="MCBS01705_0000[1]"/>
            <p:cNvPicPr/>
            <p:nvPr/>
          </p:nvPicPr>
          <p:blipFill>
            <a:blip r:embed="rId2"/>
            <a:stretch/>
          </p:blipFill>
          <p:spPr>
            <a:xfrm>
              <a:off x="6324480" y="2286000"/>
              <a:ext cx="175896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2"/>
            <p:cNvSpPr/>
            <p:nvPr/>
          </p:nvSpPr>
          <p:spPr>
            <a:xfrm>
              <a:off x="7238880" y="251460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????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6"/>
          <p:cNvSpPr/>
          <p:nvPr/>
        </p:nvSpPr>
        <p:spPr>
          <a:xfrm>
            <a:off x="1600200" y="685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Sylfaen"/>
              </a:rPr>
              <a:t>Brainstorming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352680" y="1523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entury Gothic"/>
              </a:rPr>
              <a:t>Number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143000" y="2514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Making a C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143000" y="3429000"/>
            <a:ext cx="7162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is it?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magine a cube. It has six sides. On each side, you have a different task regarding the top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MCED00215_0000[1]"/>
          <p:cNvPicPr/>
          <p:nvPr/>
        </p:nvPicPr>
        <p:blipFill>
          <a:blip r:embed="rId1"/>
          <a:stretch/>
        </p:blipFill>
        <p:spPr>
          <a:xfrm>
            <a:off x="6248520" y="4648320"/>
            <a:ext cx="1728720" cy="17524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>
            <a:off x="152280" y="68580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Sylfaen"/>
              </a:rPr>
              <a:t>Brainstorming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pull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83 -0.00671 L -0.0316 0.12506 L -0.01788 -0.00671 L -0.00365 0.12506 L 0.01076 -0.00671 L 0.02431 0.12506 L 0.03854 -0.00671 L 0.05226 0.12506 L 0.06667 -0.00671 L 0.0809 0.12506 L 0.09462 -0.00671 L 0.10885 0.12506 L 0.1224 -0.00671 L 0.13681 0.12506 L 0.15104 -0.00671 L 0.16476 0.12506 L 0.17917 -0.00671 E">
                                      <p:cBhvr>
                                        <p:cTn id="167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676520" y="68580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Sylfaen"/>
              </a:rPr>
              <a:t>Brainstorming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352680" y="1523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entury Gothic"/>
              </a:rPr>
              <a:t>Number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143000" y="2514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Making a C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5638680" y="3505320"/>
            <a:ext cx="1828800" cy="1371600"/>
          </a:xfrm>
          <a:prstGeom prst="rect">
            <a:avLst/>
          </a:prstGeom>
          <a:solidFill>
            <a:srgbClr val="0000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143000" y="32767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One: Describe the top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1146240" y="365760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Two: Compare the top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1145880" y="403848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Three: Associate the top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1145880" y="441972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Four: Analyze the top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1145520" y="480060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Five: Apply the top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1146240" y="5181480"/>
            <a:ext cx="41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Six: Argue for or against the top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5638680" y="3505320"/>
            <a:ext cx="1828800" cy="1371600"/>
          </a:xfrm>
          <a:prstGeom prst="rect">
            <a:avLst/>
          </a:prstGeom>
          <a:solidFill>
            <a:srgbClr val="0000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5638680" y="3505320"/>
            <a:ext cx="1828800" cy="1371600"/>
          </a:xfrm>
          <a:prstGeom prst="rect">
            <a:avLst/>
          </a:prstGeom>
          <a:solidFill>
            <a:srgbClr val="0000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oc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5638680" y="3505320"/>
            <a:ext cx="1828800" cy="1371600"/>
          </a:xfrm>
          <a:prstGeom prst="rect">
            <a:avLst/>
          </a:prstGeom>
          <a:solidFill>
            <a:srgbClr val="0000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638680" y="3505320"/>
            <a:ext cx="1828800" cy="1371600"/>
          </a:xfrm>
          <a:prstGeom prst="rect">
            <a:avLst/>
          </a:prstGeom>
          <a:solidFill>
            <a:srgbClr val="0000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5638680" y="3505320"/>
            <a:ext cx="1828800" cy="1371600"/>
          </a:xfrm>
          <a:prstGeom prst="rect">
            <a:avLst/>
          </a:prstGeom>
          <a:solidFill>
            <a:srgbClr val="0000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wipe dir="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52280" y="685800"/>
            <a:ext cx="58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Sylfaen"/>
              </a:rPr>
              <a:t>Brainstorming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352680" y="1523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entury Gothic"/>
              </a:rPr>
              <a:t>Number Th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143000" y="25146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us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1219320" y="3352680"/>
            <a:ext cx="6019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en you write down words or concepts associated with the topic – any ideas that come into your m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wipe dir="r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75 -0.00671 L -0.07066 0.12506 L -0.05469 -0.00671 L -0.0375 0.12506 L -0.02049 -0.00671 L -0.00469 0.12506 L 0.0125 -0.00671 L 0.02847 0.12506 L 0.04583 -0.00671 L 0.06267 0.12506 L 0.07865 -0.00671 L 0.09583 0.12506 L 0.11163 -0.00671 L 0.12865 0.12506 L 0.14583 -0.00671 L 0.16181 0.12506 L 0.17917 -0.00671 E">
                                      <p:cBhvr>
                                        <p:cTn id="309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9:48:09Z</dcterms:created>
  <dc:creator>Jeanette Gerrity</dc:creator>
  <dc:description/>
  <dc:language>en-US</dc:language>
  <cp:lastModifiedBy>Bright</cp:lastModifiedBy>
  <dcterms:modified xsi:type="dcterms:W3CDTF">2013-08-22T11:12:16Z</dcterms:modified>
  <cp:revision>27</cp:revision>
  <dc:subject/>
  <dc:title>Brainstorming</dc:title>
</cp:coreProperties>
</file>